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630-C1ED-4C19-9092-1F70ED75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F05-DFBD-4C9A-A1FD-2945E7B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B22-40E6-4CBE-BC2E-0FE4C879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688-CC9E-4324-A3A6-94EE70E6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CA4-E873-4693-B46C-D4943D5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87E-265B-4888-B480-9E38F1D0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28F-526D-4782-89BF-B2533675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16D-CD3A-4132-B8ED-68D2F01A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A88-E5DC-4EAC-8559-DFC04EF5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213-74EC-47FA-A181-BA0F6ECA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709-0CAC-4463-B5FE-4B94ED4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BBE-76EC-4666-901F-A4451E4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F70F-177A-4242-8DE7-3BC2C8AD4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191280" cy="396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819520" y="228600"/>
            <a:ext cx="360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l catálogo de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495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zmo llev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l sue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o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3809880" cy="28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ND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thony Navarro and Nick Gr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Period Span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iembre 18, 2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81080" y="228600"/>
            <a:ext cx="502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ropa de inviern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43849" t="9472" r="2002" b="4183"/>
          <a:stretch/>
        </p:blipFill>
        <p:spPr>
          <a:xfrm>
            <a:off x="533520" y="2438280"/>
            <a:ext cx="335268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1430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dra lleva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 el abrig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os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67120" y="38088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9680" y="537048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5257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negro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las bo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color marr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52480" y="685800"/>
            <a:ext cx="5715000" cy="5610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762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de color marron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el gor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color marr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rcRect l="20738" t="2081" r="0" b="0"/>
          <a:stretch/>
        </p:blipFill>
        <p:spPr>
          <a:xfrm>
            <a:off x="2819520" y="1676520"/>
            <a:ext cx="377496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8024" t="13513" r="6921" b="0"/>
          <a:stretch/>
        </p:blipFill>
        <p:spPr>
          <a:xfrm>
            <a:off x="3048120" y="1143000"/>
            <a:ext cx="372240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762120"/>
            <a:ext cx="2133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guel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la camis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Clothing"/>
          <p:cNvPicPr/>
          <p:nvPr/>
        </p:nvPicPr>
        <p:blipFill>
          <a:blip r:embed="rId7"/>
          <a:stretch/>
        </p:blipFill>
        <p:spPr>
          <a:xfrm>
            <a:off x="2819520" y="14479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negro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el sue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os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70480" y="6324480"/>
            <a:ext cx="48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de color marron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la bufand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6353 -0.6773 C 0.76128 -0.67615 0.75885 -0.67522 0.75659 -0.67406 C 0.75537 -0.6736 0.75294 -0.67245 0.75294 -0.67245 C 0.74808 -0.65972 0.74478 -0.65672 0.73888 -0.64584 C 0.73419 -0.63705 0.72933 -0.6197 0.72117 -0.616 C 0.71701 -0.60744 0.71735 -0.59981 0.71058 -0.59426 C 0.7085 -0.58084 0.71197 -0.5931 0.70468 -0.58639 C 0.69999 -0.582 0.70017 -0.57645 0.69409 -0.57367 C 0.68628 -0.56326 0.69027 -0.56581 0.6835 -0.5628 C 0.67794 -0.55285 0.6809 -0.55748 0.67187 -0.54545 C 0.67065 -0.54383 0.66822 -0.54082 0.66822 -0.54082 C 0.66683 -0.53226 0.66666 -0.53065 0.66128 -0.52509 C 0.65537 -0.51006 0.66249 -0.52486 0.65537 -0.51723 C 0.65208 -0.51376 0.64808 -0.50728 0.64478 -0.50312 C 0.63593 -0.49225 0.62864 -0.4779 0.61892 -0.46865 C 0.61753 -0.46726 0.61579 -0.4668 0.61423 -0.46564 C 0.61215 -0.46426 0.61024 -0.46287 0.60833 -0.46102 C 0.59617 -0.44899 0.58472 -0.43164 0.56944 -0.42632 C 0.56492 -0.42031 0.5611 -0.4136 0.55659 -0.40758 C 0.55294 -0.40273 0.54826 -0.39856 0.54478 -0.39347 C 0.53662 -0.38144 0.53593 -0.37682 0.52482 -0.3715 C 0.50902 -0.35137 0.53107 -0.37797 0.5177 -0.36525 C 0.51162 -0.35947 0.51319 -0.35507 0.50468 -0.35114 C 0.49947 -0.34883 0.49409 -0.3442 0.4894 -0.34027 C 0.47864 -0.33102 0.46805 -0.31644 0.45885 -0.30418 C 0.45781 -0.30279 0.45763 -0.30071 0.45659 -0.29956 C 0.43819 -0.27804 0.4618 -0.30927 0.446 -0.29007 C 0.43402 -0.27527 0.42951 -0.25861 0.41301 -0.25399 C 0.40781 -0.24982 0.40468 -0.24797 0.39895 -0.24612 C 0.39322 -0.24149 0.38697 -0.23826 0.38124 -0.23363 C 0.37534 -0.22877 0.37013 -0.22206 0.36475 -0.21628 C 0.36006 -0.21119 0.35381 -0.20911 0.34826 -0.20541 C 0.34531 -0.20333 0.34305 -0.19963 0.3401 -0.19754 C 0.33107 -0.19153 0.32065 -0.18829 0.31058 -0.18667 C 0.30381 -0.18852 0.29756 -0.18713 0.29531 -0.19592 C 0.29652 -0.19639 0.29843 -0.19893 0.29895 -0.19754 C 0.29965 -0.19592 0.29722 -0.19454 0.29652 -0.19292 C 0.296 -0.1913 0.29652 -0.18852 0.29531 -0.18806 C 0.28992 -0.18621 0.28437 -0.18713 0.27881 -0.18667 C 0.27725 -0.18343 0.27534 -0.18066 0.27412 -0.17719 C 0.27343 -0.17534 0.27412 -0.17233 0.27291 -0.17094 C 0.26978 -0.16724 0.2651 -0.16701 0.26128 -0.1647 C 0.25572 -0.15729 0.25503 -0.15406 0.24704 -0.15059 C 0.24374 -0.14341 0.23784 -0.14156 0.23419 -0.13486 C 0.23315 -0.13301 0.23281 -0.13046 0.23176 -0.12861 C 0.22812 -0.1219 0.22222 -0.11658 0.2177 -0.11126 C 0.21388 -0.10663 0.20885 -0.09646 0.20364 -0.09414 C 0.19965 -0.08905 0.19687 -0.08489 0.19183 -0.08165 C 0.18176 -0.06824 0.17013 -0.05736 0.16006 -0.04395 C 0.1552 -0.03747 0.15138 -0.02775 0.14478 -0.02521 C 0.14097 -0.02012 0.13715 -0.0185 0.13298 -0.01411 C 0.12343 -0.00439 0.12395 -0.00393 0.11058 -0.00161 C 0.09027 0.00787 0.06458 0.00394 0.04478 0.00463 C 0.03228 0.00417 0.01961 0.00556 0.00711 0.00301 C 0.00381 0.00232 -0.00105 -0.00485 -0.00105 -0.00485 C -0.00383 -0.00994 -0.0106 -0.01896 -0.0106 -0.01896 C -0.01025 -0.02382 -0.01077 -0.04533 -0.00348 -0.03146 C -0.00244 -0.02128 -6.11111E-006 -0.01017 -6.11111E-006 -2.29008E-006 E">
                                      <p:cBhvr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20749E-006 L 0.25 -1.20749E-006 E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0416 C 0.0658 0.00416 0.12187 0.0787 0.12187 0.1706 C 0.12187 0.26273 0.0658 0.33727 -0.00313 0.33727 C -0.07205 0.33727 -0.12813 0.26273 -0.12813 0.1706 C -0.12813 0.0787 -0.07205 0.00416 -0.00313 0.00416 Z">
                                      <p:cBhvr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1 0.125 0.16655 C 0.125 0.25849 0.069 0.3331 0 0.3331 C -0.069 0.3331 -0.125 0.25849 -0.125 0.16655 C -0.125 0.07461 -0.069 0 0 0 Z">
                                      <p:cBhvr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5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3500"/>
                            </p:stCondLst>
                            <p:childTnLst>
                              <p:par>
                                <p:cTn id="72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94" nodeType="after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5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5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9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1" nodeType="after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 ropa de la primavera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imavera es caliente. Los gatos disfrutan la primav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810240" cy="38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pa para mujeres de la primavera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60004" t="-1747" r="20003" b="0"/>
          <a:stretch/>
        </p:blipFill>
        <p:spPr>
          <a:xfrm>
            <a:off x="1295280" y="1371600"/>
            <a:ext cx="114300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29000" y="18288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men lleva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una fal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aranjada,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el cintur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nco, y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la camise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lana g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0800" t="1863" r="40802" b="1163"/>
          <a:stretch/>
        </p:blipFill>
        <p:spPr>
          <a:xfrm>
            <a:off x="3200400" y="1447920"/>
            <a:ext cx="18288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15000" y="25909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a lleva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la cami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marilla, y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una fal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n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pa para hombres de la primavera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6838" t="0" r="17078" b="0"/>
          <a:stretch/>
        </p:blipFill>
        <p:spPr>
          <a:xfrm>
            <a:off x="1143000" y="2819520"/>
            <a:ext cx="175248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29000" y="25909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tez lleva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el sombre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ige,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el cintur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color marron,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los pantal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algodon grises, y la camise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 ropa de otoño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343160" y="1276200"/>
            <a:ext cx="6457680" cy="4305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6019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jandro lleva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l chale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aranj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304920"/>
            <a:ext cx="6705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ropa de otoño necesita ser caliente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5354" t="0" r="17473" b="0"/>
          <a:stretch/>
        </p:blipFill>
        <p:spPr>
          <a:xfrm>
            <a:off x="762120" y="1600200"/>
            <a:ext cx="2666880" cy="4648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1828800"/>
            <a:ext cx="129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jandra lleva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l gor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ige,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os guan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color marron,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a camis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seda, 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na cap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i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 ropa de veran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714480" cy="4524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267080" y="20574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landa llev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 vesti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algodon sin mangas, 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 cintur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os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2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pa para animales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313080" cy="3886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198108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los lleva </a:t>
            </a:r>
            <a:r>
              <a:rPr b="1" lang="en-US" sz="2400" spc="-1" strike="noStrike">
                <a:solidFill>
                  <a:srgbClr val="00b000"/>
                </a:solidFill>
                <a:latin typeface="Arial"/>
              </a:rPr>
              <a:t>los maj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ules</a:t>
            </a:r>
            <a:r>
              <a:rPr b="1" lang="en-US" sz="2400" spc="-1" strike="noStrike">
                <a:solidFill>
                  <a:srgbClr val="00b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b000"/>
                </a:solidFill>
                <a:latin typeface="Arial"/>
              </a:rPr>
              <a:t> un par de ten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2:15Z</dcterms:created>
  <dc:creator>navarroant</dc:creator>
  <dc:description/>
  <dc:language>en-US</dc:language>
  <cp:lastModifiedBy>Peter L. Navarro</cp:lastModifiedBy>
  <dcterms:modified xsi:type="dcterms:W3CDTF">2011-12-19T03:07:16Z</dcterms:modified>
  <cp:revision>54</cp:revision>
  <dc:subject/>
  <dc:title>Slide 1</dc:title>
</cp:coreProperties>
</file>